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3C8-546B-4AC9-B034-B18EB1A0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B5D-07B3-4FFB-956F-F8C0996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66DD9-09A7-4231-A418-D81174B7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AE16C-25CC-4AB0-AEE1-6AAE78FD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6D198-74AA-4EEF-AB11-D5487CBD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274EA-F7CC-47FF-B60D-3DFA080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991E2-02E0-4F1E-99EE-AC135775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DC27E-0138-4762-8996-564DF4E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EFD30-705C-4C2F-829E-F5EC75BC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41930-248D-4BF5-8A55-F0B42281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157A5-5499-42C4-9F56-6D6D22A7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CB988-F004-4CC4-8D36-CCF2ED2B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B50-97CF-438A-88C3-7E3CA18B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173A6-F2B0-48AB-901E-17B5BDA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7E94A-A1D3-4055-9323-55596E8C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652CE-D134-48B8-AF2B-B0EE9D06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90711-1C71-405B-8707-C8D1DE5A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DC48A-4E93-4016-B013-ADC158A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29807-BC09-453B-981F-BBDE25E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8EE58-5EE6-4BAA-894A-0E510C9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6D5AD-6ADA-44AA-9B24-F007A027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C21EF-F169-447F-B650-7EC61234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CFCA2-6FBE-4745-B52F-39807210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DBE-97DA-4C1E-B03F-11B1E1D1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3A2A5-C6D3-4932-B872-BE8AB422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D7A55-1D4D-48FD-899E-F86C5C94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A5A12-24A2-4F2F-8615-C52BC92F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09476-290A-4B72-BE1A-C28FFE3A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DC43-13C4-40AA-97E6-125ABFA3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BC0F5-091A-485C-BDC8-E981DE3E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E4A4C-8F3A-4BB9-B02E-586F5FE9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F35D6-1944-4F87-9743-280163B9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7059F-FEB9-4970-8A98-1DFFEA4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43A4B-9FE2-4FBC-85F6-9A49C48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5B5A-0538-45D1-A126-1C602ECA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0872A-BF69-4E0E-B4EC-69480B42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053E0-3D7C-4D07-866E-A552D03E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D2B53-8823-4E63-B11E-38FBFF8E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81217-F96A-4B88-B28B-28BE8C59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87675-D327-41C9-8899-19867A39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90C94-7301-423F-AA9C-AD0A12D9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202C2-126C-4381-B350-BDC7763D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794A5-91DA-4933-8E6B-ABA06FDC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70C6C-84A2-4E13-9FEB-6B95D14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FF108-C033-4554-B9D0-96E1D898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1809-C229-4B28-8034-0F971975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8EFBA-CD0C-4D5B-9C3C-F9F82AF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0FB4B-92FD-49CB-B3FE-CAAB235B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218A9-D555-4145-B652-7FB8A324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DC509-4FB1-48AD-9FC8-7AEEF33F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BF94E-2F4C-408E-8F1D-C67CC899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B3F8-8CC6-41F2-954B-B259CD9F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B678-5891-4A3F-B610-DDD2ACCB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6B5A-CDA2-44D1-A968-74A8829A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14FF-6E72-4D4C-9114-F00F9519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3A80-63A7-4594-95A5-953AF64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A9A-5467-4728-9FF2-D631A543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5BA2-1763-409D-B329-6BD57D8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4FDA-45C8-4637-B18C-D04B677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4951-6D44-4A47-B15E-F6F5AFBE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18BD-DCF3-490A-A53C-67F26044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BD1-28AD-4366-9A2B-D2A8AE96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9090-7906-46AE-A822-10E23F7E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C3E8-19DE-4B77-8B86-D8AEC557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D868-5D5A-4D7E-AC70-3EA6DF8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C6FC-E99D-4AB4-92D0-9500C4C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1654-CC4C-415B-901E-2A806258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25D-7D22-4C78-AC8C-9F7CE7AF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AE5D-4309-4F6F-BBE2-CBC1EE05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522F-CB22-4786-87D5-2A8429E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2C2F-D752-4E47-8653-52E8E44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1224-C885-4A32-A354-35F1AF6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2F7EF-9DD6-4DDD-800E-3C9F1580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785F-BC3E-428C-BC04-DB3E1B83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C89B-12B6-4AE4-850C-A2556FAA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C4F8-D909-4CAC-B47E-FA670D07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1544-BB11-4E34-B42D-83BF793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F2F97-8575-45AC-8376-94C8C15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671-B62D-4395-9B66-28BA649B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2529-9267-47B9-B373-937E408F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2F5A-68F7-4A23-977B-35C93EB9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7A72-3378-4D0E-B0E9-45DEAA01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6DDFE-C7A7-41B1-95BE-EBE0B04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E7B4-4EDB-48A3-BA3D-5C0902BA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EE5A4-C9C5-4563-B8AD-877345E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50B0-D7B6-4C02-A829-FE5314C1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AD6F-E3CC-4418-9D9F-21CDC2BA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EDD4C-55E6-4F61-BB61-A2D7F319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C4209-E39E-4974-98A3-EB3A66D6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9F6-142D-46A9-BB05-512A94AA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F441E-C632-4A29-851D-8E4DAACB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EA483-A377-40CA-A01F-88E5DE3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15BDE-6B99-4977-8379-6A05413E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91DB-92AE-4F13-B41A-853E1A7A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C27D0-6622-47B5-9B9F-D3D1D4C8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2AF4-3E76-407A-BE9D-2FD9539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0F02A-97DA-485A-AA15-302842FE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FC61-4580-4097-8937-CCE34FC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575E-44DE-4947-BACF-32F66318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62A1-5C5F-4BBD-86AA-FF63A588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C01-77F5-40A8-BCD2-B74760F6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5D00-E7B5-4B99-8721-C95A96ED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0AFDB-BA3B-4994-8C37-4247694B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311C5-2995-4418-803F-7F4FFA67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6059-2DC9-4CFB-8A41-300306A9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05E31-A12E-4055-B3E0-CC3CDFD6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3E7BC-F2F7-42D2-8840-34C30DD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F8EB-A949-4C07-8B43-B1757929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1565-6FB1-449F-9B3E-9CCAABB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E60AF-2572-4B94-9F2E-564828C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1301D-35B3-4EC9-AF7C-0CE119CD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9B1-A119-40A3-8A86-5EBAC823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3A6C8-5F12-4942-B5B1-8DAD7DA1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511CB-AC20-4B73-B21F-DFFCCD8C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934E3-82CD-486B-B70E-E410270D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8B22-7178-48E4-9DA4-5802AB90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C2F80-4A16-4B88-AC2A-D745D508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72930-FF83-44F1-9846-C8A8FF9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11AF8-15E9-4514-A118-8359CA77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95EBC-B5FE-45FE-A5AD-33E81C72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BF744-22C1-481B-B47C-D5AC3888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9161-6595-4EAD-A174-5AD3BB16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744-1D9C-4CE9-A882-8B7C657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DDD6D-3DD4-4FAE-B28F-F944ED8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EFDFF-5636-47CE-887B-0BFD8F9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A1D83-4021-4496-AFF1-220EFC03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5A1FF-82EA-4404-9535-106A6596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F8BC8-09FC-4952-B188-64494204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E0207-CA37-48A4-BF05-89E8EDB7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5E3F7-BA15-4B45-A279-D44AD29C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94CA-89FF-4CC8-9C34-7CEAFBEE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3345E-2990-4A85-BA81-E33D2752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68FBE-6E2D-49CB-B42C-81269938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922-891D-4519-BE4A-DAD502D8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047C-B967-4EDA-AAB3-AC139B11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BE303-7D5B-412A-921B-C7EA3805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98239-812D-4DEA-A88F-136B163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239C7-BA3D-43AC-8997-75D83C5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EF0EF-9C38-4362-B6E6-CF55B4FD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EC930-2456-4754-9D5B-E7E3FC09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65F98-55F9-467F-9320-5200E560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2BDA5-457F-48A3-B248-8B6BA4F5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158DA-C38E-422C-89EE-1D4B045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F3ED3-BE2F-403F-ADD7-C8DA0449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6A472-86E6-4F70-9064-C257030DFD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98B4A-E93B-4B0B-94CE-A834F446F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A931E-1C5C-415E-A080-677415196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4D0F0-3EC6-4DA6-A326-82A6AEBAAB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16273-F8EC-4010-982B-D202C8300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A04DE-1A39-4953-9C5D-47D5972F9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B3EA6-48A2-483D-9130-7ECA85E44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3CCC6-588F-49CE-A660-38A4C4479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864EF-F5CB-4FCD-B436-7947D952E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6C8AE-0646-438A-B337-ADA61F827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0FF15-DE68-40AD-83EC-8B08A5BB68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53385-C9E5-45BF-9984-4A871754C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horeline Community Colleg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horeline School Distric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ore-To-Colleg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lleng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IME and Schedul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727920" indent="-33588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ool district and community college staff have very different schedules, making it difficult to find common time for training and collabor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etermining how to go about accomplishing our goa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Determining what we needed to do to build capacity for transcript and college placement agreement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Blending two different staff cultures to achieve common understand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Collecting data in the future to determine effectiveness of placement agreement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New Course Development in English Language Arts – 12</a:t>
            </a:r>
            <a:r>
              <a:rPr b="0" lang="en-US" sz="3000" spc="-1" strike="noStrike" baseline="30000">
                <a:solidFill>
                  <a:srgbClr val="7b9899"/>
                </a:solidFill>
                <a:latin typeface="Georgia"/>
              </a:rPr>
              <a:t>th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 grad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SD and SCC faculty jointly designed a high school senior year college readiness cour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CCSS and HEC Board Academic Descriptors for Behaviors and Dispositions to develop a common definition of what a college ready student would be able to 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pringBoar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nd Expository Reading and Writing Course from Cal State Univ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signed course that is both skill focused and high inter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lacement Process Plan for 2013-201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College Placement Agre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urse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BA scor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25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English Language Arts &amp; Math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2012-2013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217188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CSS Training (Math and ELA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rse Alignment and Comparison (Math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w Course Development (ELA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CSS Tr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glish Language Art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ssion 1: Overview of CCSS and examination of specific strands (Reading, Writing, Speaking, Listening, and Languag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ssion 2: SBA - comparing cognitive rigor of SBA performance tasks with HSPE and with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SpringBoard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embedded assessm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CSS Tr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th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st instructional practices –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hifts: focus, coherence, rig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mon langu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andards of Mathematical Practic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ooked at Smarter Balanced Performance Tas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ppropriate scaffold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ourse Alignment and Comparison (Math)</a:t>
            </a:r>
            <a:br>
              <a:rPr sz="30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d high school and SCC cour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llabus and course overviews (SCC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iculum guides (SSD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nal exams for Math 80 and 99 (SCC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extbooks for Algebra I and II and Geometry (SSD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cluded that courses were fairly aligned in content and expec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fessional Learning Plan for 2013-201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erve in each others’ clas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BA – administer a performance task to students and norm our grading toge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CC English 100 &amp; SSD English 12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CC Math 80, Math 99 &amp; SSD Algebra I, Algebra II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al insigh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derstanding instructional shifts of the CC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derstanding of rigor, content, and expectations of both SSD and SCC cour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urpri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ce we decided what to do and scheduled the work, the collaboration was a great suc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aculty expressed an interest in observing each other’s clas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aculty expressed an interest in further collaboration in norming our gra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alysis of students work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marter Balanced Performance Tas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C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Brandon Roger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Special Assistant to the President for Grants and Contrac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Dutch Henry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Professor of English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osalie Tepper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irector, Math Learning Cent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S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ri Poff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Director of Teaching and Learn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Jen Etter    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structional Specialist for Language Art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hereen Henry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Instructional Specialist for Math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4T19:48:36Z</dcterms:created>
  <dc:creator>Shoreline Schools</dc:creator>
  <dc:description/>
  <dc:language>en-US</dc:language>
  <cp:lastModifiedBy>Shoreline Schools</cp:lastModifiedBy>
  <dcterms:modified xsi:type="dcterms:W3CDTF">2013-08-07T21:55:12Z</dcterms:modified>
  <cp:revision>13</cp:revision>
  <dc:subject/>
  <dc:title>Core-To-College</dc:title>
</cp:coreProperties>
</file>